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AD1-C3EB-4324-A686-1AA902A8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6F8-EBBA-4AFA-A666-E516C4B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4E8-56F2-4116-A40A-515E9749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625-E7CB-4DCB-9BB6-B52B5FE4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94A-3143-486D-B6A8-52C12671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5F0-B8DD-4895-B01D-B9E7041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574-F750-4D78-B404-412ED69C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1B2-D421-4199-A600-D8F01044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738-27A7-4814-8EC6-7BB7913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461-FF36-4173-8C58-1AAEAFD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91E-365C-4808-AE50-232F5BF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5C3-8801-49CC-82A4-E9CE0C8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1BA-E74B-4114-9A9B-DFD2CCE50A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hyperlink" Target="http://www.youtube.com/watch?v=M689a_hZ0C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0" y="260280"/>
            <a:ext cx="9144000" cy="6308280"/>
            <a:chOff x="0" y="260280"/>
            <a:chExt cx="9144000" cy="6308280"/>
          </a:xfrm>
        </p:grpSpPr>
        <p:sp>
          <p:nvSpPr>
            <p:cNvPr id="42" name="AutoShape 5"/>
            <p:cNvSpPr/>
            <p:nvPr/>
          </p:nvSpPr>
          <p:spPr>
            <a:xfrm>
              <a:off x="3898080" y="2780280"/>
              <a:ext cx="134532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3" name="Picture 13" descr="Daydream_CD_Front_Cover"/>
            <p:cNvPicPr/>
            <p:nvPr/>
          </p:nvPicPr>
          <p:blipFill>
            <a:blip r:embed="rId1"/>
            <a:stretch/>
          </p:blipFill>
          <p:spPr>
            <a:xfrm>
              <a:off x="272880" y="2865600"/>
              <a:ext cx="8845200" cy="370296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44" name="Rectangle 15"/>
            <p:cNvSpPr/>
            <p:nvPr/>
          </p:nvSpPr>
          <p:spPr>
            <a:xfrm>
              <a:off x="3209760" y="3439800"/>
              <a:ext cx="72360" cy="2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5" name="AutoShape 16"/>
            <p:cNvGrpSpPr/>
            <p:nvPr/>
          </p:nvGrpSpPr>
          <p:grpSpPr>
            <a:xfrm>
              <a:off x="0" y="260280"/>
              <a:ext cx="9144000" cy="2198880"/>
              <a:chOff x="0" y="260280"/>
              <a:chExt cx="9144000" cy="2198880"/>
            </a:xfrm>
          </p:grpSpPr>
          <p:pic>
            <p:nvPicPr>
              <p:cNvPr id="46" name="AutoShap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0280"/>
                <a:ext cx="9144000" cy="21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1290600" y="282600"/>
                <a:ext cx="6562440" cy="19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" name="Text Box 17"/>
            <p:cNvSpPr/>
            <p:nvPr/>
          </p:nvSpPr>
          <p:spPr>
            <a:xfrm>
              <a:off x="1066680" y="282240"/>
              <a:ext cx="624636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    </a:t>
              </a: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Michelle, Shamni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    </a:t>
              </a: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Hyungsook, Sunny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ydreaming"/>
          <p:cNvPicPr/>
          <p:nvPr/>
        </p:nvPicPr>
        <p:blipFill>
          <a:blip r:embed="rId1"/>
          <a:stretch/>
        </p:blipFill>
        <p:spPr>
          <a:xfrm>
            <a:off x="0" y="0"/>
            <a:ext cx="298764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0" name="AutoShape 6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794840" y="204840"/>
            <a:ext cx="27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HY견고딕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132000" y="1484280"/>
            <a:ext cx="6012000" cy="5373720"/>
          </a:xfrm>
          <a:prstGeom prst="foldedCorner">
            <a:avLst>
              <a:gd name="adj" fmla="val 6101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3276720" y="2205000"/>
            <a:ext cx="5848560" cy="3749760"/>
            <a:chOff x="3276720" y="2205000"/>
            <a:chExt cx="5848560" cy="3749760"/>
          </a:xfrm>
        </p:grpSpPr>
        <p:sp>
          <p:nvSpPr>
            <p:cNvPr id="54" name="AutoShape 9"/>
            <p:cNvSpPr/>
            <p:nvPr/>
          </p:nvSpPr>
          <p:spPr>
            <a:xfrm>
              <a:off x="3276720" y="242100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3424680" y="2205000"/>
              <a:ext cx="5700600" cy="3749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Visionary Fantasy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Happy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Pleasant Thoughts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Hopes or Ambitions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magine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>
              <a:off x="3276720" y="314172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AutoShape 13"/>
            <p:cNvSpPr/>
            <p:nvPr/>
          </p:nvSpPr>
          <p:spPr>
            <a:xfrm>
              <a:off x="3276720" y="3933720"/>
              <a:ext cx="364680" cy="35892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AutoShape 14"/>
            <p:cNvSpPr/>
            <p:nvPr/>
          </p:nvSpPr>
          <p:spPr>
            <a:xfrm>
              <a:off x="3276720" y="5375160"/>
              <a:ext cx="364680" cy="35892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AutoShape 15"/>
            <p:cNvSpPr/>
            <p:nvPr/>
          </p:nvSpPr>
          <p:spPr>
            <a:xfrm>
              <a:off x="3276720" y="465300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"/>
          <p:cNvGrpSpPr/>
          <p:nvPr/>
        </p:nvGrpSpPr>
        <p:grpSpPr>
          <a:xfrm>
            <a:off x="73080" y="73080"/>
            <a:ext cx="2122560" cy="6784920"/>
            <a:chOff x="73080" y="73080"/>
            <a:chExt cx="2122560" cy="6784920"/>
          </a:xfrm>
        </p:grpSpPr>
        <p:pic>
          <p:nvPicPr>
            <p:cNvPr id="61" name="Picture 4" descr="ANd9GcQmYxW74KtC_Sgo_sjY2FAJcoTes3fcnlGXoesEmzmniHSZ3APn"/>
            <p:cNvPicPr/>
            <p:nvPr/>
          </p:nvPicPr>
          <p:blipFill>
            <a:blip r:embed="rId1"/>
            <a:stretch/>
          </p:blipFill>
          <p:spPr>
            <a:xfrm>
              <a:off x="73080" y="73080"/>
              <a:ext cx="2122560" cy="306864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2" name="Picture 6" descr="ANd9GcT6Y44s9riMaoVcIuVKGl9CofEitqmcNhle9PVcO4bvczG9Wzfz"/>
            <p:cNvPicPr/>
            <p:nvPr/>
          </p:nvPicPr>
          <p:blipFill>
            <a:blip r:embed="rId2"/>
            <a:stretch/>
          </p:blipFill>
          <p:spPr>
            <a:xfrm>
              <a:off x="73080" y="3141720"/>
              <a:ext cx="2122560" cy="37162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63" name="AutoShape 8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39"/>
          <p:cNvGrpSpPr/>
          <p:nvPr/>
        </p:nvGrpSpPr>
        <p:grpSpPr>
          <a:xfrm>
            <a:off x="2268360" y="1628640"/>
            <a:ext cx="7267680" cy="6892560"/>
            <a:chOff x="2268360" y="1628640"/>
            <a:chExt cx="7267680" cy="6892560"/>
          </a:xfrm>
        </p:grpSpPr>
        <p:sp>
          <p:nvSpPr>
            <p:cNvPr id="65" name="AutoShape 30"/>
            <p:cNvSpPr/>
            <p:nvPr/>
          </p:nvSpPr>
          <p:spPr>
            <a:xfrm>
              <a:off x="2268360" y="1628640"/>
              <a:ext cx="6875640" cy="522936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Text Box 33"/>
            <p:cNvSpPr/>
            <p:nvPr/>
          </p:nvSpPr>
          <p:spPr>
            <a:xfrm>
              <a:off x="2340000" y="1844640"/>
              <a:ext cx="7196040" cy="6676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Making careless mistakes</a:t>
              </a:r>
              <a:r>
                <a:rPr b="0" lang="en-US" sz="4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orgetfulness, Avoiding tasks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Appearing not to listen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fficulty concentrating on        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conversations</a:t>
              </a:r>
              <a:r>
                <a:rPr b="1" lang="en-US" sz="4000" spc="-1" strike="noStrike">
                  <a:solidFill>
                    <a:srgbClr val="ffff00"/>
                  </a:solidFill>
                  <a:latin typeface="굴림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Misplacing or  difficulty     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inding things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utoShape 34"/>
            <p:cNvSpPr/>
            <p:nvPr/>
          </p:nvSpPr>
          <p:spPr>
            <a:xfrm>
              <a:off x="2340000" y="213372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AutoShape 35"/>
            <p:cNvSpPr/>
            <p:nvPr/>
          </p:nvSpPr>
          <p:spPr>
            <a:xfrm>
              <a:off x="2340000" y="278136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AutoShape 36"/>
            <p:cNvSpPr/>
            <p:nvPr/>
          </p:nvSpPr>
          <p:spPr>
            <a:xfrm>
              <a:off x="2340000" y="336060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AutoShape 37"/>
            <p:cNvSpPr/>
            <p:nvPr/>
          </p:nvSpPr>
          <p:spPr>
            <a:xfrm>
              <a:off x="2340000" y="4008600"/>
              <a:ext cx="291960" cy="21240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0640 h 212400"/>
                <a:gd name="textAreaBottom" fmla="*/ 161640 h 21240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AutoShape 38"/>
            <p:cNvSpPr/>
            <p:nvPr/>
          </p:nvSpPr>
          <p:spPr>
            <a:xfrm>
              <a:off x="2340000" y="516096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ANd9GcRAu7vPcZ0O6YWRbErpimrh0jHkPkBueFMJXvw7MB-SqNWMUtZajA"/>
          <p:cNvPicPr/>
          <p:nvPr/>
        </p:nvPicPr>
        <p:blipFill>
          <a:blip r:embed="rId1"/>
          <a:stretch/>
        </p:blipFill>
        <p:spPr>
          <a:xfrm>
            <a:off x="3132000" y="115920"/>
            <a:ext cx="5902560" cy="1554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3" name="AutoShape 12"/>
          <p:cNvSpPr/>
          <p:nvPr/>
        </p:nvSpPr>
        <p:spPr>
          <a:xfrm>
            <a:off x="71280" y="216000"/>
            <a:ext cx="298800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73080" y="1773360"/>
            <a:ext cx="9035640" cy="6309000"/>
            <a:chOff x="73080" y="1773360"/>
            <a:chExt cx="9035640" cy="6309000"/>
          </a:xfrm>
        </p:grpSpPr>
        <p:sp>
          <p:nvSpPr>
            <p:cNvPr id="75" name="AutoShape 7"/>
            <p:cNvSpPr/>
            <p:nvPr/>
          </p:nvSpPr>
          <p:spPr>
            <a:xfrm>
              <a:off x="73080" y="1773360"/>
              <a:ext cx="9035640" cy="508464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566280" y="2354400"/>
              <a:ext cx="180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>
              <a:off x="293760" y="1916280"/>
              <a:ext cx="370800" cy="35856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890640" y="1773360"/>
              <a:ext cx="7895160" cy="63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nability to Accept Reality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 person’s obsession with his own thoughts. </a:t>
              </a:r>
              <a:br>
                <a:rPr sz="3200"/>
              </a:b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ff99"/>
                  </a:solidFill>
                  <a:latin typeface="Times New Roman"/>
                </a:rPr>
                <a:t>ositive Activity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The process of creativity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Planning for the future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Learning from success and failure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Emotion regulation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99"/>
                  </a:solidFill>
                  <a:latin typeface="Times New Roman"/>
                </a:rPr>
                <a:t>Negative Activity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Waste a lot of time</a:t>
              </a:r>
              <a:r>
                <a:rPr b="0" lang="en-US" sz="3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Accident or Death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AutoShape 27"/>
            <p:cNvSpPr/>
            <p:nvPr/>
          </p:nvSpPr>
          <p:spPr>
            <a:xfrm>
              <a:off x="293760" y="234936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AutoShape 28"/>
            <p:cNvSpPr/>
            <p:nvPr/>
          </p:nvSpPr>
          <p:spPr>
            <a:xfrm>
              <a:off x="293760" y="292572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AutoShape 29"/>
            <p:cNvSpPr/>
            <p:nvPr/>
          </p:nvSpPr>
          <p:spPr>
            <a:xfrm>
              <a:off x="293760" y="530064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ANd9GcQMAsQyg2_tTvRrIFP40zubrf6YeSwAFk2o7z5OVir81jNA64v4"/>
          <p:cNvPicPr/>
          <p:nvPr/>
        </p:nvPicPr>
        <p:blipFill>
          <a:blip r:embed="rId1"/>
          <a:stretch/>
        </p:blipFill>
        <p:spPr>
          <a:xfrm>
            <a:off x="108000" y="189000"/>
            <a:ext cx="3205080" cy="6597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3" name="AutoShape 6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3348000" y="1484280"/>
            <a:ext cx="5473440" cy="5373720"/>
            <a:chOff x="3348000" y="1484280"/>
            <a:chExt cx="5473440" cy="5373720"/>
          </a:xfrm>
        </p:grpSpPr>
        <p:sp>
          <p:nvSpPr>
            <p:cNvPr id="85" name="AutoShape 5"/>
            <p:cNvSpPr/>
            <p:nvPr/>
          </p:nvSpPr>
          <p:spPr>
            <a:xfrm>
              <a:off x="3348000" y="1484280"/>
              <a:ext cx="5473440" cy="537372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voiding Triggers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ay Busy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 Avoid Procrastination 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ake Care of Yourself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ality Check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void Self Hatred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rapy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rugs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rayer, Meditation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3492360" y="170028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3492360" y="213372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3492360" y="328464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AutoShape 11"/>
            <p:cNvSpPr/>
            <p:nvPr/>
          </p:nvSpPr>
          <p:spPr>
            <a:xfrm>
              <a:off x="3487680" y="3789360"/>
              <a:ext cx="365040" cy="35892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AutoShape 12"/>
            <p:cNvSpPr/>
            <p:nvPr/>
          </p:nvSpPr>
          <p:spPr>
            <a:xfrm>
              <a:off x="3487680" y="486900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AutoShape 13"/>
            <p:cNvSpPr/>
            <p:nvPr/>
          </p:nvSpPr>
          <p:spPr>
            <a:xfrm>
              <a:off x="3487680" y="436572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AutoShape 14"/>
            <p:cNvSpPr/>
            <p:nvPr/>
          </p:nvSpPr>
          <p:spPr>
            <a:xfrm>
              <a:off x="3487680" y="6022800"/>
              <a:ext cx="365040" cy="35892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AutoShape 12"/>
          <p:cNvSpPr/>
          <p:nvPr/>
        </p:nvSpPr>
        <p:spPr>
          <a:xfrm>
            <a:off x="3486240" y="5446800"/>
            <a:ext cx="365040" cy="358560"/>
          </a:xfrm>
          <a:custGeom>
            <a:avLst/>
            <a:gdLst>
              <a:gd name="textAreaLeft" fmla="*/ 112680 w 365040"/>
              <a:gd name="textAreaRight" fmla="*/ 252360 w 365040"/>
              <a:gd name="textAreaTop" fmla="*/ 136800 h 358560"/>
              <a:gd name="textAreaBottom" fmla="*/ 273960 h 358560"/>
            </a:gdLst>
            <a:ahLst/>
            <a:rect l="textAreaLeft" t="textAreaTop" r="textAreaRight" b="textAreaBottom"/>
            <a:pathLst>
              <a:path w="365125" h="358775">
                <a:moveTo>
                  <a:pt x="0" y="137039"/>
                </a:moveTo>
                <a:lnTo>
                  <a:pt x="139466" y="137040"/>
                </a:lnTo>
                <a:lnTo>
                  <a:pt x="182563" y="0"/>
                </a:lnTo>
                <a:lnTo>
                  <a:pt x="225659" y="137040"/>
                </a:lnTo>
                <a:lnTo>
                  <a:pt x="365125" y="137039"/>
                </a:lnTo>
                <a:lnTo>
                  <a:pt x="252294" y="221734"/>
                </a:lnTo>
                <a:lnTo>
                  <a:pt x="295392" y="358774"/>
                </a:lnTo>
                <a:lnTo>
                  <a:pt x="182563" y="274078"/>
                </a:lnTo>
                <a:lnTo>
                  <a:pt x="69733" y="358774"/>
                </a:lnTo>
                <a:lnTo>
                  <a:pt x="112831" y="22173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aydreaming Video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Picture 6" descr="MC900331029[1]"/>
          <p:cNvPicPr/>
          <p:nvPr/>
        </p:nvPicPr>
        <p:blipFill>
          <a:blip r:embed="rId1"/>
          <a:stretch/>
        </p:blipFill>
        <p:spPr>
          <a:xfrm rot="720000">
            <a:off x="178920" y="1915920"/>
            <a:ext cx="2952720" cy="230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900365792[1]"/>
          <p:cNvPicPr/>
          <p:nvPr/>
        </p:nvPicPr>
        <p:blipFill>
          <a:blip r:embed="rId2"/>
          <a:stretch/>
        </p:blipFill>
        <p:spPr>
          <a:xfrm>
            <a:off x="3276720" y="2565360"/>
            <a:ext cx="5327640" cy="33116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97" name="Rectangle 9"/>
          <p:cNvSpPr/>
          <p:nvPr/>
        </p:nvSpPr>
        <p:spPr>
          <a:xfrm>
            <a:off x="3087720" y="1844640"/>
            <a:ext cx="1543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day dra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3:34:50Z</dcterms:created>
  <dc:creator>Chris Kong</dc:creator>
  <dc:description/>
  <dc:language>en-US</dc:language>
  <cp:lastModifiedBy>vcurtis</cp:lastModifiedBy>
  <dcterms:modified xsi:type="dcterms:W3CDTF">2011-03-07T20:13:36Z</dcterms:modified>
  <cp:revision>28</cp:revision>
  <dc:subject/>
  <dc:title>Slide 1</dc:title>
</cp:coreProperties>
</file>